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85F-C656-4B47-BDD8-A933E50D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5CD-A87B-407F-AD5A-61B72993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233-4EDA-4C08-9DD1-5946F0F9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177-3967-4C56-991D-F62EA360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3717-9BB4-4FFB-8279-24690C3A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4CF7-C4BB-43A6-9C05-1A1E3A4E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2A54-AA61-4465-82C4-C1C9AE5C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82C8-95E3-4174-9BCB-A55DA606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C8FA-27B8-4CF6-B239-9FD166DB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9D0D-5BD4-48D6-8B9E-71E57E7C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CBCB-3B15-4AFB-91C7-7F363AF1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0D4-AA3D-4C36-8FCA-4D76521E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9CC6-F6D2-4CD0-BC8A-23C01DDB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161A-91E7-457D-9FE5-E5514703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D026-A045-40EE-B351-75036F54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09C8-E3CD-4025-8385-89CADC5D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260E-2050-49F7-8D9F-0BFAA3B3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3B8-F81E-423F-BB0B-F5FB572E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B88-B21F-477C-84BE-280C8F96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B37-0E4C-42E0-8078-42ECE40E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030-8C2D-4791-BE01-CE27AC86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AEF-B0AF-45D4-BCBF-E7E233AF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6EF-F92F-4C2B-B5F2-375F2645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004-96DD-4AB7-88B0-0B37B193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C82C-F176-4DB9-8581-FEA035CEAB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DD1D-2292-471E-8B99-07A80532EEB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Информационная система мониторинга розничной торговли алкогольной продукцией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79280" y="1890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Раздел «Накладны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5905440" cy="4724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84720" y="620640"/>
            <a:ext cx="288000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ументы и их стро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держка справочников поставщиков и производителей алкогольной проду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завершение при заполнении по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ичный контроль ввода (проверка заполнения обязательных пол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асчет вычисляемых полей при необходим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79280" y="189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ывод информации на просмотр и печ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6654600" cy="5851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836640"/>
            <a:ext cx="2016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зможность вывода информации в виде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ML-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раницы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интернет-браузере) либо в виде документ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рограмма «Декларация - обработк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осмотр информации об организациях, обособленных подразделениях и поданных ими декларация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вигация по организациям и декларациям (возможность просмотра всех деклараций от организации либо обособленного подразделения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полнение поисковых и аналитических запросов для получения отчет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правление системными справочниками для получения наиболее достоверных отчет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вод деклараций и полученных отчетов на просмотр и печа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Информация об организациях и обособленных подразделениях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6403680" cy="4803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197000"/>
            <a:ext cx="248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осмотр информации об организациях и обособленных подразделения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авигация по организациям и декларациям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16360" y="968400"/>
            <a:ext cx="4248360" cy="3182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11280" y="1125360"/>
            <a:ext cx="352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озможность перехода от объекта (организации или обособленного подразделения) к декларациям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4327560" cy="3246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932360" y="465300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ли от деклараций к объекта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Просмотр информации о деклараци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6595920" cy="5108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79280" y="1197000"/>
            <a:ext cx="2087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осмотр поданных деклараций с детализацией по накладным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Поиск информаци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6308640" cy="5108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79280" y="1484280"/>
            <a:ext cx="237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озможность фильтрации списка деклараций по организации либо ее обособленному подразделени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Задание критериев поиск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916360" y="9810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79280" y="1052640"/>
            <a:ext cx="259236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поискового запроса при помощи интуитивно понятного интерфейс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зможность задания нескольких критериев в запрос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ование справочников для определения критери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Управление системными справочникам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6033960" cy="4526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0920" y="1125360"/>
            <a:ext cx="2519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ханизм эталонных значений предоставляет возможность привязки одинаковых по смыслу, но разных по написанию значений к выбранной записи справочника, что обеспечивает получение корректных отчетов в случае автоматически пополняемых справоч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9280" y="1890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ывод информации на просмотр и печ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6375600" cy="5491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0920" y="907920"/>
            <a:ext cx="212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сть вывода информации в вид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ML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аницы (в интернет-браузере) либо в виде документ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значение сист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истема автоматизирует деятельность по сбору, хранению и обработке информации о деятельности организаций, занимающихся розничной торговлей алкогольной продукцией и имеющих лицензии на данный вид деятельност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9280" y="1890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Формирование аналитических отч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389640" cy="4638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1052640"/>
            <a:ext cx="223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нтрализованное хранение шаблонов отчетов на локально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вер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79280" y="1890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Формирование аналитических отч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1052640"/>
            <a:ext cx="2232000" cy="37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сть задания параметров для получаемого отч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340000" y="981000"/>
            <a:ext cx="6608880" cy="56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9280" y="1890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Формирование аналитических отч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280" y="1052640"/>
            <a:ext cx="2232000" cy="52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вод отчета на просмотр или печать через интернет-браузер ил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Wo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56000" y="907920"/>
            <a:ext cx="6264000" cy="563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истема выполняет 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бор информации в электронном виде о деятельности организаций розничной торговли алкогольной продукци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втоматизированная загрузка собираемой информации в центральную базу данных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полнение поисковых запросов и запросов для построения сводных отчето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бор информ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89308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ткрытый формат деклар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0" b="3766"/>
          <a:stretch/>
        </p:blipFill>
        <p:spPr>
          <a:xfrm>
            <a:off x="179280" y="1268280"/>
            <a:ext cx="4283280" cy="4897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50036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грамма «Декларация»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оздание и редактирование декларац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охранение деклараций в файл открытого форма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мпорт информации из ранее созданных декларац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осмотр и печать созданной декларации в удобном для пользователя вид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екларация содержит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нформацию об отчитывающейся организации и обособленном подразделен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водную информацию по остаткам на начало и конец отчетного периода, закупкам, перемещениям и расходу алкогольной продук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етальную информацию по закупкам алкогольной продукции (накладные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5688000" cy="5451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9280" y="1890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Раздел «Декларац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2000" y="1125360"/>
            <a:ext cx="295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Отчетный пери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Организация и ее подраздел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ервичный контроль полноты информа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490160" cy="4713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9280" y="189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Раздел «Свод деклараци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5516640"/>
          <a:ext cx="8424720" cy="106668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статки продукции (на начало и конец период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купки проду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SzPct val="60000"/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нутренние перемещения проду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SzPct val="60000"/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асход проду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0:50:14Z</dcterms:created>
  <dc:creator>nsi</dc:creator>
  <dc:description/>
  <dc:language>en-US</dc:language>
  <cp:lastModifiedBy>Unknown</cp:lastModifiedBy>
  <dcterms:modified xsi:type="dcterms:W3CDTF">2009-05-14T12:20:14Z</dcterms:modified>
  <cp:revision>47</cp:revision>
  <dc:subject/>
  <dc:title>Информационная система мониторинга розничной торговли алкогольной продукцией</dc:title>
</cp:coreProperties>
</file>