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0C93-5943-439E-92A4-4C7507A4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C300-D0CE-46F2-8710-1B466295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0C71-0DEC-499C-A2B8-3141FFB7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3560-A4FE-419A-A954-0DA7708A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91CA-D591-48E6-8898-DA6CE5D5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1E9F-22E7-4CB8-AF38-8D9E93E5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AB9E-5D0E-4208-8DC0-75F66B49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538D-AA69-4E4F-BE00-3FD44E9D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E3A2-4C0F-452D-BB51-72EA9B21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91E1-E382-4BD4-A6D4-534EB899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7F8A-C0C2-4EF8-8CE9-A2D9A347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82C-BA7C-4A85-BA11-6C67B3FE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83E7-B1CE-4119-B979-8C737150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38EE-D265-46C7-A381-9F0A00BC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6D77-82C0-483F-84CA-F2F32BA4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8EE2-BAF6-497F-BB10-E747CA3E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ED17-60D8-4852-8BE7-FB70AA7B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82C1-EA8B-4BAA-AA83-58E14830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094-9CA6-4BF5-82C4-89E27881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4556-1B63-40CF-BBA8-0FFA2554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54BF-73F1-452C-8AB0-1B5C39B7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45F-6C44-4755-80DF-068B7763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6431-25F3-4BF6-90C0-BE5293A5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C9D-994E-4AD9-AFE6-639726DB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C137-A5A4-4946-B2A9-B5478EFC106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8D04-A17D-4324-B982-B160E1804CD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2708280"/>
            <a:ext cx="7993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Информационная система ведения реестра лицензий на розничную торговлю алкогольной продукцией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18900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Формирование аналитических отч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1052640"/>
            <a:ext cx="208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сть задания параметров для получаемого отч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672444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18900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Формирование аналитических отч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1052640"/>
            <a:ext cx="2232000" cy="52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вод отчета на просмотр или печать через интернет-браузер ил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oft Wo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6377040" cy="58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Поддержание справочников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76720" y="1197000"/>
            <a:ext cx="5616360" cy="5319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25360"/>
            <a:ext cx="3203640" cy="41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Просмотр и редактирование справочников, необходимых для поддержания реестров лицензий и организаци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Поддержка иерархических справочник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значение систе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62864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стема автоматизирует деятельность по выдаче и ведению реестра выданных лицензий по виду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розничная торговля алкогольной продукцие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истема выполняет 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едение базы данных для хранения информации о выданных лицензиях для обеспечения доступа должностных лиц к накопленным данны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вод и редактирование данных об организациях и выданных им лицензия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полнение поисковых запросов, запросов для получения сводных отчетов и вывод их на просмотр и печа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грамма «Лицензии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правление реестром организаций и обособленных подразделений, имеющих лицензии на розничную торговлю алкогольной продукцие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правление реестром лицензий, выдаваемых организациям по виду деятельности «розничная торговля алкогольной продукцией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втоматическая простановка статуса лицензий в зависимости от срока ее действия, а также событий, связанных с ней во время ее жизненного цикл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ыполнение поисковых и аналитических. запросов для получения отчет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ддержание справочников, необходимых для ведения реестров лицензий и организац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ывод реестра лицензий и получаемых отчетов на просмотр и печа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Информация об организациях и обособленных подразделениях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6289560" cy="4479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1413000"/>
            <a:ext cx="2592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Просмотр и редактирование информации об организациях и обособленных подразделения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авигация между организациями и лицензиями. Создание новой лицензии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176720" cy="3102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24000" y="60958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Создание лицензии для выбранной организации и обособленных подразделени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48428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озможность перехода от организации к выданным ей  лицензиям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6360" y="4724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ли от лицензий к организация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40384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Ведение реестра лицензий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125360"/>
            <a:ext cx="2843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Просмотр и редактирование информации о лицензиях, сублицензиях, а также о событиях связанных с лицензие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987640" y="1125360"/>
            <a:ext cx="59212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Поиск информаци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125360"/>
            <a:ext cx="324036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озможность фильтрации реестра лицензий по ряду критери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Формирование поискового запроса при помощи интуитивно понятного интерфейс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озможность задания нескольких критериев в запрос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спользование справочников для определения критериев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564000" y="1125360"/>
            <a:ext cx="535932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9280" y="18900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Формирование аналитических отч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1052640"/>
            <a:ext cx="266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нтрализованное хранение шаблонов отчетов на локальном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вер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916360" y="836640"/>
            <a:ext cx="6014880" cy="585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4:02:20Z</dcterms:created>
  <dc:creator>nsi</dc:creator>
  <dc:description/>
  <dc:language>en-US</dc:language>
  <cp:lastModifiedBy>Unknown</cp:lastModifiedBy>
  <dcterms:modified xsi:type="dcterms:W3CDTF">2009-05-14T12:20:17Z</dcterms:modified>
  <cp:revision>23</cp:revision>
  <dc:subject/>
  <dc:title>Слайд 1</dc:title>
</cp:coreProperties>
</file>